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AB285-A5FC-488A-9D13-6BB3113D2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37CC8-F631-4509-A743-EF71B4134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978F6-7BFB-4504-9610-AC7926057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6DD18-AB07-4477-97B6-90314F36C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B77A2-795F-4D86-9096-6FA8903CE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0B50A-05E8-4443-9DFA-33DEFE6AC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C0355-9B27-4C6D-86A1-319242B57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17832-1A44-4F73-A7BE-2911D78B6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774F0-FD4D-4BE8-9CE6-B2B9C660C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5AABF-3FE2-4C9A-BFC2-B5DDC96AA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1F5FB-B52A-4434-9E9D-FB8850B64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B7EA5-E959-4E4F-A37B-F65FFA387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92C3469-FC75-4951-A5DB-435BDD7AF75F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KykziiHpyuo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9320" y="1752480"/>
            <a:ext cx="64767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1640">
              <a:spcBef>
                <a:spcPts val="1125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WBAT…understand, through practice, the importance and influence of detail in writing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spcBef>
                <a:spcPts val="1125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cribe the pictur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0804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1752480"/>
            <a:ext cx="647676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16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WBAT…understand, through practice, the importance and influence of detail in writing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cribe the pictur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can we </a:t>
            </a:r>
            <a:r>
              <a:rPr b="0" lang="en-US" sz="18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“Explode the Moment,”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What kind of details can you add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What is the most interesting P.O.V.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What images or sensory details are most powerful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dur="indefinite" fill="hold">
                      <p:stCondLst>
                        <p:cond delay="indefinite"/>
                      </p:stCondLst>
                      <p:childTnLst>
                        <p:par>
                          <p:cTn id="1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2000" fill="hold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2000" fill="hold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2000" fill="hold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14400" y="685800"/>
            <a:ext cx="7772400" cy="585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oetry Pro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ir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 least 14 lines ____/ 20p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lly, and correctly punctuated____/ 20p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ear poetic voice ___/ 10p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four of the following ___/ 50p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716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Sim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716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Metaph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716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Person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716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Anthropomorphi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716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Sensory detai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716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Allit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716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Enjamb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716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Repet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716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Rhyme Sche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ue - FRIDAY!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4T11:59:26Z</dcterms:created>
  <dc:creator>Administrator</dc:creator>
  <dc:description/>
  <dc:language>en-US</dc:language>
  <cp:lastModifiedBy>Nick Chanese</cp:lastModifiedBy>
  <dcterms:modified xsi:type="dcterms:W3CDTF">2010-09-26T20:53:23Z</dcterms:modified>
  <cp:revision>6</cp:revision>
  <dc:subject/>
  <dc:title>Slide 1</dc:title>
</cp:coreProperties>
</file>